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0882-95C3-469D-BB4C-DAA367A8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B649-DC14-4937-BD7F-7EAE1FBD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0430-C747-409C-8DD1-D9E24FC8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1445-6F7A-49E0-9ADD-52FCCF70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0A2D-35AC-40D4-92E0-DAE10761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375-F21B-43C3-A096-0D527A4F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B363-F09D-4F46-A819-F20F1EBD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30D8-4CB7-4037-B31E-84913F5E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14B3-2E76-4708-9C60-002D43E2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8316-AC68-45C6-90B3-FB0944CD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7EDF-10CF-48FB-B963-3F2CDC22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8032-D147-4598-BEE4-995E7E67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06AD-CF29-40F1-ABF5-CCD572B49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: some possible scena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320" y="1828440"/>
            <a:ext cx="48769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. Dev. : 1027.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f: 1.28 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0.0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3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is the required sample size to detect a 30% change in maize yiel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e this is the same question as if you wanted to see a 30% difference between related questions in the same data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1043.4 kg/hect (baseline +30%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1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62k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94k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124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3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ing a clustered sample with 10 households/cluste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1043.4 kg/hect (baseline +3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9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80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19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9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2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required sample size to detect a 20% change in maize yiel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963.1 kg/hect (baseline +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0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41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11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82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2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ing a clustered sample with 10 households/cluste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963.1 kg/hect (baseline +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9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79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68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357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1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required sample size to detect a 10% change in maize yiel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82.6 kg/hect (baseline +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,82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566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848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.13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1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ing a clustered sample with 10 households/cluste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82.6 kg/hect (baseline +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,59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$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718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$1.08m $1.44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st of a rigorous evaluation depends on many parame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suming confidence level=90% and same correlation between baseline and follow-up measurements, survey cost can range from $62k to $1.44m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key hypothesis is just on the value of the % change: the lower the projected change the higher the sample required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, better be conservative and prepared to pick even the 10% change, as if we plan for the 30% and then the 10% occurs, our sample will be too small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02:59:44Z</dcterms:created>
  <dc:creator>CAZZARRI</dc:creator>
  <dc:description/>
  <dc:language>en-US</dc:language>
  <cp:lastModifiedBy>LeBorgne, Ewen (ILRI)</cp:lastModifiedBy>
  <dcterms:modified xsi:type="dcterms:W3CDTF">2012-10-02T10:14:20Z</dcterms:modified>
  <cp:revision>12</cp:revision>
  <dc:subject/>
  <dc:title>Evaluation: some possible scenarios</dc:title>
</cp:coreProperties>
</file>